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DB4-3149-4E61-9F49-C029395E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476-D932-487A-BE2B-91AA2A09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D3CA-B8EE-4C00-95B2-1AB3648C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C60-4B5C-43EC-8C3B-C6A29EC1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1F94-7C7C-460B-AD30-86A8E5FC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C15-D51A-4897-B17F-18C1CFB6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388-92A4-461F-9D14-D0C006D3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22C5-12A1-4469-9A91-15EBA83C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B46-6991-443C-BBEF-FEE43C6A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79D3-3177-407B-85E1-905AEC49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291-8A8C-4586-9105-739127B7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FC7-808D-4CA6-8714-D197EB7C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425E-8F58-444D-BA29-886AA2CAE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xander Graham B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lex, Cody, Jason, and N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 Graham Bell  invented the telegraph in 187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52920" y="2970360"/>
            <a:ext cx="2427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born in 1847 in Edinburgh, Scotland and died in 1922 in Baddeck, Nova Scotia, in Can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2214720"/>
            <a:ext cx="40384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5:32:06Z</dcterms:created>
  <dc:creator>Montour School District</dc:creator>
  <dc:description/>
  <dc:language>en-US</dc:language>
  <cp:lastModifiedBy>Montour School District</cp:lastModifiedBy>
  <dcterms:modified xsi:type="dcterms:W3CDTF">2008-05-22T13:10:39Z</dcterms:modified>
  <cp:revision>3</cp:revision>
  <dc:subject/>
  <dc:title>Alexander Graham Bell </dc:title>
</cp:coreProperties>
</file>